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A39-49E2-44D8-8E2E-AB9E737E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BEA-243F-44EE-85EC-9562D59D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A41-BE82-4F90-B26C-38F54E45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B315-0617-4D16-9C58-90C74549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5CCF-81CB-4657-BDA2-DB060844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5D6-B7CF-450F-8651-02D229D9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40A-EE55-41D4-B656-1307229E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7C5-CFB1-45E7-B728-C4004F28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149A-159F-4CB8-9952-BC197DC2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067-9505-4C02-BA81-E4CC94F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E4B-09B1-48D7-96E7-577BF9B3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261-55C5-4ED2-A9D0-15539F3C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69D4-3EB2-44CB-972F-DD2F2821F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entury Gothic"/>
              </a:rPr>
              <a:t>Name the Par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57240" y="609480"/>
            <a:ext cx="54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030400" y="1523880"/>
            <a:ext cx="5081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330280" y="1635120"/>
            <a:ext cx="44834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17920" y="609480"/>
            <a:ext cx="3906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28840" y="771480"/>
            <a:ext cx="2686320" cy="531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28800" y="6400800"/>
            <a:ext cx="3505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www.apple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51160" y="609480"/>
            <a:ext cx="4441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27320" y="609480"/>
            <a:ext cx="6489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00200" y="5867280"/>
            <a:ext cx="571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www.amazon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000160" y="2143080"/>
            <a:ext cx="5143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63800" y="609480"/>
            <a:ext cx="701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38560" y="209556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52480" y="5791320"/>
            <a:ext cx="3886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www.amazon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76480" y="609480"/>
            <a:ext cx="4991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05000" y="609480"/>
            <a:ext cx="473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90720" y="5943600"/>
            <a:ext cx="4038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www.apple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8160" y="609480"/>
            <a:ext cx="54676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67080" y="838080"/>
            <a:ext cx="4209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81360" y="738360"/>
            <a:ext cx="537984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48040" y="1000080"/>
            <a:ext cx="5047920" cy="485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6324480"/>
            <a:ext cx="579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www.alienware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016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38560" y="209556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95280" y="5638680"/>
            <a:ext cx="487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http://www.amazon.co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30:41Z</dcterms:created>
  <dc:creator>Nicole Meintz</dc:creator>
  <dc:description/>
  <dc:language>en-US</dc:language>
  <cp:lastModifiedBy>Franklin High School</cp:lastModifiedBy>
  <dcterms:modified xsi:type="dcterms:W3CDTF">2008-04-02T14:47:23Z</dcterms:modified>
  <cp:revision>2</cp:revision>
  <dc:subject/>
  <dc:title>Name the Part</dc:title>
</cp:coreProperties>
</file>